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C26-C301-4CBB-87F4-B137FA5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E8F-764C-4DC5-A97D-58E6FFD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C56-2509-43AB-BDF9-168B5F1A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AD8-0812-4534-81E0-074418B8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ED0-AF55-4349-ABD6-FF84DE16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B6C-9B54-4BDA-9BA7-3AE7EDF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588-46B1-4C30-92A6-76B35A5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020-1753-45B4-A126-A1462838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5CD-D29A-415E-8DBD-873F142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080-A35B-4CB0-B508-070AC01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84F-335F-4D5F-808A-1CE211B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204-DDBA-4CF4-99FE-B57616D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624-FC81-4983-BF20-0AEB618A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825310RTEFHjwk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7760" y="0"/>
            <a:ext cx="8445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ومرة بها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لزمان دخلت ع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غمرني نورك ورحل النسي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ضحكت عيني ووصل صداه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لعند السما، لفرح الج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4_PG8028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56480" y="0"/>
            <a:ext cx="593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البحر والص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مكن ألف 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تركتك ونسيت العه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بعيد الخوف ياخذ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ما يبقى حدى ح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ضل حبك ناط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risttheTwoThievesZo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985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2640" y="4756320"/>
            <a:ext cx="86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عطريق الشوك رافقني صلي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صار ألم الأرض ممزوج بعذا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جرحك غمر الكون، والدني كل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5:21Z</dcterms:modified>
  <cp:revision>6</cp:revision>
  <dc:subject/>
  <dc:title>PowerPoint Presentation</dc:title>
</cp:coreProperties>
</file>